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4DD5-ADE3-4C53-BD33-907522964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4E8B-1BA8-44BD-A6DF-9A698C38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B31D-B105-4AE4-80DB-3B65452B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21AC-B1F1-467E-8DD7-538240DE3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F523-5E41-461F-B984-9FAC0682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6A4D-61BC-4735-82DC-8152D15A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FA66-AA62-497A-ADC8-A2C80DF8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4F7E-6477-4E9D-85CD-3ACCEB65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6BD3-3032-4E6E-8728-92BC71FE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8A79-89AE-4D73-AE98-17C9FB3E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C378-09FB-4840-BCE0-45DA0D59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FD0E-F9FC-4B58-B52C-DE38A0D6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7126-9C46-479D-8C10-509C48112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3dexport.com/models/6894/7012/chinese_opera_masks_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04560" y="2133720"/>
            <a:ext cx="4724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veryone wears a mask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Mask hides people’s inner feeling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Mask changes people and who they a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Mask gives people courage and confidence to do things they never cou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utting on a mask is everyone’s rout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here are as many mask as there are people and everyone is as different as their masks a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On one can truly understand someone else's mask and no one else can truly understand your ma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Mask are what people we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tangle 4" descr=""/>
          <p:cNvPicPr/>
          <p:nvPr/>
        </p:nvPicPr>
        <p:blipFill>
          <a:blip r:embed="rId2"/>
          <a:stretch/>
        </p:blipFill>
        <p:spPr>
          <a:xfrm>
            <a:off x="-212760" y="66600"/>
            <a:ext cx="72532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4:30:58Z</dcterms:created>
  <dc:creator>12jlin</dc:creator>
  <dc:description/>
  <dc:language>en-US</dc:language>
  <cp:lastModifiedBy>12jlin</cp:lastModifiedBy>
  <dcterms:modified xsi:type="dcterms:W3CDTF">2010-12-10T18:54:34Z</dcterms:modified>
  <cp:revision>5</cp:revision>
  <dc:subject/>
  <dc:title>Slide 1</dc:title>
</cp:coreProperties>
</file>